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0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8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23.xml"/><Relationship Id="rId12" Type="http://schemas.openxmlformats.org/officeDocument/2006/relationships/slide" Target="slide23.xml"/><Relationship Id="rId13" Type="http://schemas.openxmlformats.org/officeDocument/2006/relationships/slide" Target="slide23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26.xml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1.xml"/><Relationship Id="rId4" Type="http://schemas.openxmlformats.org/officeDocument/2006/relationships/slide" Target="slide30.xml"/><Relationship Id="rId5" Type="http://schemas.openxmlformats.org/officeDocument/2006/relationships/slide" Target="slide32.xm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0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7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menge normal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der groß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ollakis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absat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uf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3960" y="5493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bsatz häuf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38240" y="54936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3"/>
            <a:endCxn id="17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mellit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nconi-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ubulusepithe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durch Nephrotoxin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5" idx="3"/>
            <a:endCxn id="17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-obstruktive Diure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nach FLUT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 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520" y="5666760"/>
            <a:ext cx="428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3"/>
            <a:endCxn id="18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drenokortizism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rksa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38240" y="54936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rksame 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7" idx="3"/>
            <a:endCxn id="19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Mannito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Nier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3" idx="3"/>
            <a:endCxn id="19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7" name=""/>
          <p:cNvCxnSpPr>
            <a:stCxn id="193" idx="3"/>
            <a:endCxn id="19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m Nierenmark 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38240" y="54936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Nierenmark zu wen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1" idx="3"/>
            <a:endCxn id="20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ullary-washo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stör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38240" y="54936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Nierenmark zu wen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7" idx="3"/>
            <a:endCxn id="21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ullary-washo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armes Futt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3"/>
            <a:endCxn id="21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7" name=""/>
          <p:cNvCxnSpPr>
            <a:stCxn id="213" idx="3"/>
            <a:endCxn id="21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ekund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1" idx="3"/>
            <a:endCxn id="22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5" name=""/>
          <p:cNvCxnSpPr>
            <a:stCxn id="221" idx="3"/>
            <a:endCxn id="22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zentraler 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DH-Bild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2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Freisetz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29" idx="3"/>
            <a:endCxn id="23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3" name=""/>
          <p:cNvCxnSpPr>
            <a:stCxn id="229" idx="3"/>
            <a:endCxn id="23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1038240" y="54936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zentral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ekundärer 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menge normal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der groß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7640" y="549360"/>
            <a:ext cx="52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9120" y="63968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38240" y="54936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zentral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ekundärer 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DH-Bildu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7" idx="3"/>
            <a:endCxn id="24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cephal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Freisetz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38240" y="54936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zentral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ekundärer 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DH-Freisetzu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3" idx="3"/>
            <a:endCxn id="24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i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 Alkoho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phrogener 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5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53" name=""/>
          <p:cNvCxnSpPr>
            <a:stCxn id="249" idx="3"/>
            <a:endCxn id="25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9" idx="3"/>
            <a:endCxn id="25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kompetitive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ngeborener Mange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Fehlfun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er Mange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hlfun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38240" y="54936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phrogen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ngebor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ngel/Fehlfunktion der 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9" idx="3"/>
            <a:endCxn id="262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etitive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38240" y="54936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phrogen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kompetitive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cherichia-coli-Toxin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 Koffei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38240" y="54936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H-vermitte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phrogener Diabetes insipidu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1" idx="3"/>
            <a:endCxn id="27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i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7" idx="3"/>
            <a:endCxn id="280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81" name=""/>
          <p:cNvCxnSpPr>
            <a:stCxn id="277" idx="3"/>
            <a:endCxn id="27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ych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ur beim Hund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38960" y="549360"/>
            <a:ext cx="76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5" idx="3"/>
            <a:endCxn id="28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89" name=""/>
          <p:cNvCxnSpPr>
            <a:stCxn id="285" idx="3"/>
            <a:endCxn id="28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eeinflussung des 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einflussung des Durstzentrums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&gt; Läsion des 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93" idx="3"/>
            <a:endCxn id="29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9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cephal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einflussung des Durstzentrums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&gt; 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299" idx="3"/>
            <a:endCxn id="30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mmo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ei Leberinsuffizienz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4" idx="3"/>
            <a:endCxn id="11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5" name=""/>
          <p:cNvCxnSpPr>
            <a:stCxn id="114" idx="3"/>
            <a:endCxn id="11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1006920" y="5493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llakis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orm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dr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5" idx="3"/>
            <a:endCxn id="3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9" name=""/>
          <p:cNvCxnSpPr>
            <a:stCxn id="305" idx="3"/>
            <a:endCxn id="3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962280" y="549360"/>
            <a:ext cx="34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ollakis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dr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2" idx="3"/>
            <a:endCxn id="31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>
            <a:stCxn id="312" idx="3"/>
            <a:endCxn id="31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Östr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rkierverhal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40400" y="549360"/>
            <a:ext cx="57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lakis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ormaler Harndra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20" idx="3"/>
            <a:endCxn id="32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ntzündung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artielle 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00800" y="549360"/>
            <a:ext cx="49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llakis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dra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tielle 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91880" y="549360"/>
            <a:ext cx="73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ollakis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drang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ntzündung/parti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LUT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olithiasis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kteri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rnwegs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rnwegstumor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hypertrophie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karzin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38960" y="549360"/>
            <a:ext cx="76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3"/>
            <a:endCxn id="12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3" name=""/>
          <p:cNvCxnSpPr>
            <a:stCxn id="119" idx="3"/>
            <a:endCxn id="12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9" idx="3"/>
            <a:endCxn id="12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osmotisch wirksa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5560" y="549360"/>
            <a:ext cx="82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absatz häufig &gt; Harnmenge normal oder groß &gt; PD/PU &gt; primäre PU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unktionsverlust von 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9" idx="3"/>
            <a:endCxn id="13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4" name=""/>
          <p:cNvCxnSpPr>
            <a:stCxn id="129" idx="3"/>
            <a:endCxn id="135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5560" y="549360"/>
            <a:ext cx="82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absatz häufig &gt; Harnmenge normal oder groß &gt; PD/PU &gt; primäre PU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unktionsverlust von Nephronen &gt; akute 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3"/>
            <a:endCxn id="14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sch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ktionsverlust von 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3" idx="3"/>
            <a:endCxn id="14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ereninsuffizienz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smotisch wirksa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m Nier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9" idx="3"/>
            <a:endCxn id="15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3" name=""/>
          <p:cNvCxnSpPr>
            <a:stCxn id="149" idx="3"/>
            <a:endCxn id="15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influss von osmotisch wirksamen 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7" idx="3"/>
            <a:endCxn id="15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1" name=""/>
          <p:cNvCxnSpPr>
            <a:stCxn id="157" idx="3"/>
            <a:endCxn id="15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wirksa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57" idx="3"/>
            <a:endCxn id="162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5" name=""/>
          <p:cNvCxnSpPr>
            <a:stCxn id="157" idx="3"/>
            <a:endCxn id="163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1038240" y="549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arnabsatz häuf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arnmenge normal oder groß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3:48:59Z</dcterms:modified>
  <cp:revision>334</cp:revision>
  <dc:subject/>
  <dc:title>Vorstellung einer Neuheit</dc:title>
</cp:coreProperties>
</file>